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7.jpeg" ContentType="image/jpeg"/>
  <Override PartName="/ppt/media/image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to-student questi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hat does a network of conversation look lik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raw a network map – what would those connections look like? Can you imagin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learning commun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 interaction in the math class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ffective questioning monograp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 that these are guiding questions and participants are welcome to pull what they are connecting to in this article as they wi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the group to share out key elements around these guiding questions or other questions that they had in their group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 learn to anticipate student thinking (with a facilit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return to the group – question by listening to the “student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rs – receive information about their role (recording the dialogue and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Observers return to the group to capture the dialogu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visit the transcript to see if any of these types occur</a:t>
            </a: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4446-A7C9-439B-8C97-591852923C00}" type="slidenum">
              <a:rPr b="0" lang="en-US" sz="2400" spc="-1" strike="noStrike">
                <a:solidFill>
                  <a:srgbClr val="000000"/>
                </a:solidFill>
                <a:latin typeface="Arial"/>
                <a:ea typeface="ヒラギノ角ゴ ProN W3"/>
              </a:rPr>
              <a:t>&lt;number&gt;</a:t>
            </a:fld>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rning goals are upfront here for our learning … Reminder: </a:t>
            </a:r>
            <a:r>
              <a:rPr b="1" lang="en-CA" sz="1200" spc="-1" strike="noStrike">
                <a:solidFill>
                  <a:srgbClr val="000000"/>
                </a:solidFill>
                <a:latin typeface="Arial"/>
              </a:rPr>
              <a:t>not always the case in m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lacement &amp; clarify of learning go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e student thinking, use student responses to shift instruction and expose student think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expres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o know what the whole is to know what the fraction is! (recall ribbon ques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is the whole that we are dividing in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part of the whole does the leftover piece repres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video gets at what it means to develop a thinking classroom and a community of meaningful tal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tend to shut down thinking …the kids are tentative because they don’t know the answ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infeld evalu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ids working interpre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are about trying to hear and understand student thinking – not just chec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need to ask the right sorts of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 also develop question prompts that students ask one an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del what we might expect to hear in the classroom (practice asking Q to one another and listening in an interpretive sen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ategy for changing our questioning is to write down ahead of time some standard questions that work in most situations (e.g. tell me more about that … tell me how you know … how does this connect to what we did yesterday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ce of a math talk learning commun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et model rather than a deficit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achers interacting with each other in a true PL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stening to understand student thinking – not just listening for misconcep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ris’ perspective – “different understa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understand this? How do you se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we train ourselves to listen be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signing good questions takes time and “knowledge” … we learn as much from the kids as they learn from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ext question I ask depends on how the student just responded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the problem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ticipate student thinking)</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potential question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ight the learning goals be - representing, selecting an appropriate model/tool</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min) </a:t>
            </a:r>
            <a:endParaRPr b="0" lang="en-US" sz="1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ctivate the brownie problem using a story context (Fosnot) that requires kids make sense of to solve.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b baked  brownies, her son got in and ate some, there were only 7 left. Deb’s daughter came in with her friends and they were going to split them up.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ow much will each of the girls - Tori, Anna, Rachel, and Emily - get? </a:t>
            </a:r>
            <a:endParaRPr b="0" lang="en-US" sz="1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min)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Solve the problem to anticipate student thinking and identify potential questions to ask.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lso consider, what learning goal might you have for this problem?</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min)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 Look at samples of student work at your table … use prompts from the resources at your table to push student thinking forward, to make sense of thinking.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ite your questions on post-its - content/process/strategy – place on the student work.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63730-DE7E-47AC-9019-C4D2385FFA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622CE-22EA-4EFB-ADB8-2774FAAA8C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E04F8-4DDB-4461-92DB-B02597A6B6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2B4D3-8F17-4866-A1E8-55EC9DCA42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8C7C8-8125-4766-BDA0-A11394A4A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3960-4562-4192-ACA8-6C62AA9EBB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C8129-FAC4-4330-A590-575EDD32D3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6AC5B1F1-CF09-42A2-ADF7-E97EA1858E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D8F8B7-CBA1-437F-BEA8-7B9424C24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D84C5-F55C-4C8A-8AE9-1A0945DD08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77517-75CF-4259-BD4B-08107058E2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31E0C-35B2-49A6-BCCB-508C553E5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8D7D-5E86-4E67-A774-78AA2817460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http://cooperativelearning.nuvvo.com/lesson/9592-seinfeld-teaches-histor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E012-B932-4526-BAF3-86E58E720D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609120" y="2285640"/>
            <a:ext cx="8077320" cy="1523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rPr>
              <a:t>Math CAMPPP 2012</a:t>
            </a:r>
            <a:br>
              <a:rPr sz="4800"/>
            </a:br>
            <a:r>
              <a:rPr b="0" lang="en-US" sz="4400" spc="-1" strike="noStrike">
                <a:solidFill>
                  <a:srgbClr val="2490d8"/>
                </a:solidFill>
                <a:latin typeface="Tahoma"/>
              </a:rPr>
              <a:t>Breakout 4A</a:t>
            </a:r>
            <a:endParaRPr b="0" lang="en-US" sz="4400" spc="-1" strike="noStrike">
              <a:solidFill>
                <a:srgbClr val="2b5ca9"/>
              </a:solidFill>
              <a:latin typeface="Arial"/>
            </a:endParaRPr>
          </a:p>
        </p:txBody>
      </p:sp>
      <p:sp>
        <p:nvSpPr>
          <p:cNvPr id="48" name=""/>
          <p:cNvSpPr txBox="1"/>
          <p:nvPr/>
        </p:nvSpPr>
        <p:spPr>
          <a:xfrm>
            <a:off x="761760" y="4038120"/>
            <a:ext cx="7924680" cy="1676520"/>
          </a:xfrm>
          <a:prstGeom prst="rect">
            <a:avLst/>
          </a:prstGeom>
          <a:noFill/>
          <a:ln w="0">
            <a:noFill/>
          </a:ln>
        </p:spPr>
        <p:txBody>
          <a:bodyPr lIns="50760" rIns="132120" tIns="50760" bIns="50760" anchor="t">
            <a:normAutofit fontScale="87000"/>
          </a:bodyPr>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Questioning, Listening and Responding to</a:t>
            </a:r>
            <a:endParaRPr b="0" lang="en-US" sz="3200" spc="-1" strike="noStrike">
              <a:solidFill>
                <a:srgbClr val="000000"/>
              </a:solidFill>
              <a:latin typeface="Arial"/>
            </a:endParaRPr>
          </a:p>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Promote Students’ Mathematical Thinking</a:t>
            </a: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152280" y="76320"/>
            <a:ext cx="25909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udent responses </a:t>
            </a:r>
            <a:r>
              <a:rPr b="0" lang="en-CA" sz="4400" spc="-1" strike="noStrike">
                <a:solidFill>
                  <a:srgbClr val="2b5ca9"/>
                </a:solidFill>
                <a:latin typeface="Arial"/>
              </a:rPr>
              <a:t>	</a:t>
            </a:r>
            <a:endParaRPr b="0" lang="en-US" sz="4400" spc="-1" strike="noStrike">
              <a:solidFill>
                <a:srgbClr val="2b5ca9"/>
              </a:solidFill>
              <a:latin typeface="Arial"/>
            </a:endParaRPr>
          </a:p>
        </p:txBody>
      </p:sp>
      <p:sp>
        <p:nvSpPr>
          <p:cNvPr id="7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insight into thei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lluminate ways the students understand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examples of ways of thinking for othe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F811-8AB1-4B6F-B212-8FC0AE5788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rt 2 … </a:t>
            </a:r>
            <a:endParaRPr b="0" lang="en-US" sz="4400" spc="-1" strike="noStrike">
              <a:solidFill>
                <a:srgbClr val="2b5ca9"/>
              </a:solidFill>
              <a:latin typeface="Arial"/>
            </a:endParaRPr>
          </a:p>
        </p:txBody>
      </p:sp>
      <p:sp>
        <p:nvSpPr>
          <p:cNvPr id="80"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2" name=""/>
          <p:cNvSpPr txBox="1"/>
          <p:nvPr/>
        </p:nvSpPr>
        <p:spPr>
          <a:xfrm>
            <a:off x="457200" y="1600200"/>
            <a:ext cx="8229600" cy="13716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is the shortest word in the English language that contains the letters: abcdef? </a:t>
            </a:r>
            <a:endParaRPr b="0" lang="en-US" sz="32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2755-E34B-4E34-86A7-D65660A049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 name=""/>
          <p:cNvSpPr/>
          <p:nvPr/>
        </p:nvSpPr>
        <p:spPr>
          <a:xfrm>
            <a:off x="3202560" y="327672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feedback.</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box(in)"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a:t>
            </a:r>
            <a:endParaRPr b="0" lang="en-US" sz="4400" spc="-1" strike="noStrike">
              <a:solidFill>
                <a:srgbClr val="2b5ca9"/>
              </a:solidFill>
              <a:latin typeface="Arial"/>
            </a:endParaRPr>
          </a:p>
        </p:txBody>
      </p:sp>
      <p:sp>
        <p:nvSpPr>
          <p:cNvPr id="86" name=""/>
          <p:cNvSpPr txBox="1"/>
          <p:nvPr/>
        </p:nvSpPr>
        <p:spPr>
          <a:xfrm>
            <a:off x="457200" y="144756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worth noting, right from the start, that assessment is a human process, conducted by and with human beings, and subject inevitably to the frailties of human judgement.  However crisp and objective we might try to make it and however neatly quantifiable may be our ‘results’, assessment is closer to an art than a science.  It is, after all, an exercise in human communication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29</a:t>
            </a:r>
            <a:endParaRPr b="0" lang="en-US" sz="28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7565-8D62-4F3A-82FA-3962CE11E1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1" descr=""/>
          <p:cNvPicPr/>
          <p:nvPr/>
        </p:nvPicPr>
        <p:blipFill>
          <a:blip r:embed="rId1"/>
          <a:stretch/>
        </p:blipFill>
        <p:spPr>
          <a:xfrm>
            <a:off x="0" y="5356080"/>
            <a:ext cx="9144000" cy="1517760"/>
          </a:xfrm>
          <a:prstGeom prst="rect">
            <a:avLst/>
          </a:prstGeom>
          <a:ln w="0">
            <a:noFill/>
          </a:ln>
        </p:spPr>
      </p:pic>
      <p:sp>
        <p:nvSpPr>
          <p:cNvPr id="89"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C900-4D36-4990-874B-41AFE2DBF3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0"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92"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provides students with a description of their learning.  The purpose of providing feedback is to reduce the gap between a student’s current level of knowledge and skills and the learning goals.</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16B8-C8BB-4850-BABC-DBB3EE7648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4" name="Picture 1" descr=""/>
          <p:cNvPicPr/>
          <p:nvPr/>
        </p:nvPicPr>
        <p:blipFill>
          <a:blip r:embed="rId1"/>
          <a:stretch/>
        </p:blipFill>
        <p:spPr>
          <a:xfrm>
            <a:off x="0" y="5356080"/>
            <a:ext cx="9144000" cy="1517760"/>
          </a:xfrm>
          <a:prstGeom prst="rect">
            <a:avLst/>
          </a:prstGeom>
          <a:ln w="0">
            <a:noFill/>
          </a:ln>
        </p:spPr>
      </p:pic>
      <p:sp>
        <p:nvSpPr>
          <p:cNvPr id="9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CD06-BB29-4F6F-9CCB-F559AFA1C6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98"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descriptive feedback linked specifically to the learning goals and success criteria is a powerful tool for improving student learning and is fundamental to building a culture of learning within the classroom.</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E4A5-8940-4E11-BFA2-2FE85A179E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0" name="Picture 1" descr=""/>
          <p:cNvPicPr/>
          <p:nvPr/>
        </p:nvPicPr>
        <p:blipFill>
          <a:blip r:embed="rId1"/>
          <a:stretch/>
        </p:blipFill>
        <p:spPr>
          <a:xfrm>
            <a:off x="0" y="5356080"/>
            <a:ext cx="9144000" cy="1517760"/>
          </a:xfrm>
          <a:prstGeom prst="rect">
            <a:avLst/>
          </a:prstGeom>
          <a:ln w="0">
            <a:noFill/>
          </a:ln>
        </p:spPr>
      </p:pic>
      <p:sp>
        <p:nvSpPr>
          <p:cNvPr id="10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0C15-32C5-4A3F-B3C1-B2AB56DF12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oles … </a:t>
            </a:r>
            <a:endParaRPr b="0" lang="en-US" sz="4400" spc="-1" strike="noStrike">
              <a:solidFill>
                <a:srgbClr val="2b5ca9"/>
              </a:solidFill>
              <a:latin typeface="Arial"/>
            </a:endParaRPr>
          </a:p>
        </p:txBody>
      </p:sp>
      <p:sp>
        <p:nvSpPr>
          <p:cNvPr id="1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Teacher</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Observer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tudent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ibbon Problem</a:t>
            </a:r>
            <a:endParaRPr b="0" lang="en-US" sz="4400" spc="-1" strike="noStrike">
              <a:solidFill>
                <a:srgbClr val="2b5ca9"/>
              </a:solidFill>
              <a:latin typeface="Arial"/>
            </a:endParaRPr>
          </a:p>
        </p:txBody>
      </p:sp>
      <p:sp>
        <p:nvSpPr>
          <p:cNvPr id="106" name="PlaceHolder 2"/>
          <p:cNvSpPr>
            <a:spLocks noGrp="1"/>
          </p:cNvSpPr>
          <p:nvPr>
            <p:ph/>
          </p:nvPr>
        </p:nvSpPr>
        <p:spPr>
          <a:xfrm>
            <a:off x="457200" y="1599840"/>
            <a:ext cx="403848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 have 7 yards of ribbon.  It takes 3/4 of a yard to wrap a gift.  How many gifts can you wrap?</a:t>
            </a:r>
            <a:endParaRPr b="0" lang="en-US" sz="2800" spc="-1" strike="noStrike">
              <a:solidFill>
                <a:srgbClr val="000000"/>
              </a:solidFill>
              <a:latin typeface="Arial"/>
            </a:endParaRPr>
          </a:p>
        </p:txBody>
      </p:sp>
      <p:pic>
        <p:nvPicPr>
          <p:cNvPr id="107" name="" descr="gift box blue"/>
          <p:cNvPicPr/>
          <p:nvPr/>
        </p:nvPicPr>
        <p:blipFill>
          <a:blip r:embed="rId1"/>
          <a:stretch/>
        </p:blipFill>
        <p:spPr>
          <a:xfrm>
            <a:off x="4648320" y="1447920"/>
            <a:ext cx="404496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509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sponding by Listening Simulation</a:t>
            </a:r>
            <a:endParaRPr b="0" lang="en-US" sz="4400" spc="-1" strike="noStrike">
              <a:solidFill>
                <a:srgbClr val="2b5ca9"/>
              </a:solidFill>
              <a:latin typeface="Arial"/>
            </a:endParaRPr>
          </a:p>
        </p:txBody>
      </p:sp>
      <p:sp>
        <p:nvSpPr>
          <p:cNvPr id="109" name="PlaceHolder 2"/>
          <p:cNvSpPr>
            <a:spLocks noGrp="1"/>
          </p:cNvSpPr>
          <p:nvPr>
            <p:ph/>
          </p:nvPr>
        </p:nvSpPr>
        <p:spPr>
          <a:xfrm>
            <a:off x="457200" y="2285640"/>
            <a:ext cx="8229600" cy="25146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ork on the problem</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A framework for examining questions</a:t>
            </a:r>
            <a:endParaRPr b="0" lang="en-US" sz="4000" spc="-1" strike="noStrike">
              <a:solidFill>
                <a:srgbClr val="2b5ca9"/>
              </a:solidFill>
              <a:latin typeface="Arial"/>
            </a:endParaRPr>
          </a:p>
        </p:txBody>
      </p:sp>
      <p:sp>
        <p:nvSpPr>
          <p:cNvPr id="111" name=""/>
          <p:cNvSpPr txBox="1"/>
          <p:nvPr/>
        </p:nvSpPr>
        <p:spPr>
          <a:xfrm>
            <a:off x="914400" y="1676520"/>
            <a:ext cx="739152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for understand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group interac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viewing or summarizing work</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ing students to explain their think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for alternate way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ing to go farther</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teacher observation) </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endParaRPr b="0" lang="en-US" sz="4400" spc="-1" strike="noStrike">
              <a:solidFill>
                <a:srgbClr val="2b5ca9"/>
              </a:solidFill>
              <a:latin typeface="Arial"/>
            </a:endParaRPr>
          </a:p>
        </p:txBody>
      </p:sp>
      <p:sp>
        <p:nvSpPr>
          <p:cNvPr id="51" name=""/>
          <p:cNvSpPr txBox="1"/>
          <p:nvPr/>
        </p:nvSpPr>
        <p:spPr>
          <a:xfrm>
            <a:off x="457200" y="1066320"/>
            <a:ext cx="8686800" cy="4419720"/>
          </a:xfrm>
          <a:prstGeom prst="rect">
            <a:avLst/>
          </a:prstGeom>
          <a:noFill/>
          <a:ln w="0">
            <a:noFill/>
          </a:ln>
        </p:spPr>
        <p:txBody>
          <a:bodyPr lIns="50760" rIns="13212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e questioning and listening strategies that evoke and expose thinking </a:t>
            </a:r>
            <a:endParaRPr b="0" lang="en-US" sz="32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the concept of fraction as a quotient (partitive and quotative)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7F0F-8A72-45CB-B44A-FED04F6B8F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4024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3DEC-CA9E-4A5D-9DC4-5A58BB8421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Questioning to …</a:t>
            </a:r>
            <a:endParaRPr b="0" lang="en-US" sz="4400" spc="-1" strike="noStrike">
              <a:solidFill>
                <a:srgbClr val="2b5ca9"/>
              </a:solidFill>
              <a:latin typeface="Arial"/>
            </a:endParaRPr>
          </a:p>
        </p:txBody>
      </p:sp>
      <p:sp>
        <p:nvSpPr>
          <p:cNvPr id="113" name=""/>
          <p:cNvSpPr txBox="1"/>
          <p:nvPr/>
        </p:nvSpPr>
        <p:spPr>
          <a:xfrm>
            <a:off x="304560" y="1371600"/>
            <a:ext cx="8839080" cy="45720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observations that helps improve understanding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sters student sense of self-efficacy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yback to student what I see in their work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et kids to reflect on their work and see where they can go next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e student thinking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 student-to-student network of dialogue </a:t>
            </a:r>
            <a:endParaRPr b="0" lang="en-US" sz="2800" spc="-1" strike="noStrike">
              <a:solidFill>
                <a:srgbClr val="000000"/>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286E-70C8-44AE-B012-0351B086C7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ummary … </a:t>
            </a:r>
            <a:endParaRPr b="0" lang="en-US" sz="4400" spc="-1" strike="noStrike">
              <a:solidFill>
                <a:srgbClr val="2b5ca9"/>
              </a:solidFill>
              <a:latin typeface="Arial"/>
            </a:endParaRPr>
          </a:p>
        </p:txBody>
      </p:sp>
      <p:sp>
        <p:nvSpPr>
          <p:cNvPr id="116" name=""/>
          <p:cNvSpPr txBox="1"/>
          <p:nvPr/>
        </p:nvSpPr>
        <p:spPr>
          <a:xfrm>
            <a:off x="457200" y="1599840"/>
            <a:ext cx="8229600" cy="38862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questioning can serve to elicit and promote mathematical thinking </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ction can be a verb – the action of quotient (division) with two different but related meanings</a:t>
            </a:r>
            <a:endParaRPr b="0" lang="en-US" sz="32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7B72-242D-41A0-B113-0E0C3A9CF2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partitive)</a:t>
            </a:r>
            <a:endParaRPr b="0" lang="en-US" sz="4400" spc="-1" strike="noStrike">
              <a:solidFill>
                <a:srgbClr val="2b5ca9"/>
              </a:solidFill>
              <a:latin typeface="Arial"/>
            </a:endParaRPr>
          </a:p>
        </p:txBody>
      </p:sp>
      <p:sp>
        <p:nvSpPr>
          <p:cNvPr id="11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fraction can represent divi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g. 7 brownies divided among 4 peop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is known (4)</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is unknow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276C-B9AB-4FFD-8C94-6EFBB887CC6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21" name="Group 12"/>
          <p:cNvGrpSpPr/>
          <p:nvPr/>
        </p:nvGrpSpPr>
        <p:grpSpPr>
          <a:xfrm>
            <a:off x="2286000" y="4191120"/>
            <a:ext cx="5791320" cy="1447560"/>
            <a:chOff x="2286000" y="4191120"/>
            <a:chExt cx="5791320" cy="1447560"/>
          </a:xfrm>
        </p:grpSpPr>
        <p:sp>
          <p:nvSpPr>
            <p:cNvPr id="122" name="Rectangle 5"/>
            <p:cNvSpPr/>
            <p:nvPr/>
          </p:nvSpPr>
          <p:spPr>
            <a:xfrm>
              <a:off x="373392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6"/>
            <p:cNvSpPr/>
            <p:nvPr/>
          </p:nvSpPr>
          <p:spPr>
            <a:xfrm>
              <a:off x="304776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46483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8"/>
            <p:cNvSpPr/>
            <p:nvPr/>
          </p:nvSpPr>
          <p:spPr>
            <a:xfrm>
              <a:off x="228600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9"/>
            <p:cNvSpPr/>
            <p:nvPr/>
          </p:nvSpPr>
          <p:spPr>
            <a:xfrm>
              <a:off x="708696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0"/>
            <p:cNvSpPr/>
            <p:nvPr/>
          </p:nvSpPr>
          <p:spPr>
            <a:xfrm>
              <a:off x="62485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1"/>
            <p:cNvSpPr/>
            <p:nvPr/>
          </p:nvSpPr>
          <p:spPr>
            <a:xfrm>
              <a:off x="541044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9" name="Group 20"/>
          <p:cNvGrpSpPr/>
          <p:nvPr/>
        </p:nvGrpSpPr>
        <p:grpSpPr>
          <a:xfrm>
            <a:off x="2111400" y="3890880"/>
            <a:ext cx="6324480" cy="2309760"/>
            <a:chOff x="2111400" y="3890880"/>
            <a:chExt cx="6324480" cy="2309760"/>
          </a:xfrm>
        </p:grpSpPr>
        <p:sp>
          <p:nvSpPr>
            <p:cNvPr id="130" name="Freeform 13"/>
            <p:cNvSpPr/>
            <p:nvPr/>
          </p:nvSpPr>
          <p:spPr>
            <a:xfrm>
              <a:off x="6550560" y="3890880"/>
              <a:ext cx="1885320" cy="2093760"/>
            </a:xfrm>
            <a:custGeom>
              <a:avLst/>
              <a:gdLst/>
              <a:ahLst/>
              <a:rect l="l" t="t" r="r" b="b"/>
              <a:pathLst>
                <a:path w="1885197" h="2094808">
                  <a:moveTo>
                    <a:pt x="1745673" y="199506"/>
                  </a:moveTo>
                  <a:cubicBezTo>
                    <a:pt x="1605069" y="164354"/>
                    <a:pt x="1750574" y="204791"/>
                    <a:pt x="1529542" y="116379"/>
                  </a:cubicBezTo>
                  <a:cubicBezTo>
                    <a:pt x="1496999" y="103362"/>
                    <a:pt x="1429789" y="83128"/>
                    <a:pt x="1429789" y="83128"/>
                  </a:cubicBezTo>
                  <a:cubicBezTo>
                    <a:pt x="1413164" y="72044"/>
                    <a:pt x="1397785" y="58813"/>
                    <a:pt x="1379913" y="49877"/>
                  </a:cubicBezTo>
                  <a:cubicBezTo>
                    <a:pt x="1364238" y="42040"/>
                    <a:pt x="1347038" y="37501"/>
                    <a:pt x="1330036" y="33251"/>
                  </a:cubicBezTo>
                  <a:cubicBezTo>
                    <a:pt x="1231881" y="8712"/>
                    <a:pt x="1177583" y="10323"/>
                    <a:pt x="1064029" y="0"/>
                  </a:cubicBezTo>
                  <a:cubicBezTo>
                    <a:pt x="958735" y="5542"/>
                    <a:pt x="853153" y="7080"/>
                    <a:pt x="748146" y="16626"/>
                  </a:cubicBezTo>
                  <a:cubicBezTo>
                    <a:pt x="710398" y="20058"/>
                    <a:pt x="677409" y="45776"/>
                    <a:pt x="648393" y="66502"/>
                  </a:cubicBezTo>
                  <a:cubicBezTo>
                    <a:pt x="474042" y="191040"/>
                    <a:pt x="677036" y="45405"/>
                    <a:pt x="532015" y="166255"/>
                  </a:cubicBezTo>
                  <a:cubicBezTo>
                    <a:pt x="516665" y="179047"/>
                    <a:pt x="498398" y="187892"/>
                    <a:pt x="482138" y="199506"/>
                  </a:cubicBezTo>
                  <a:cubicBezTo>
                    <a:pt x="459590" y="215611"/>
                    <a:pt x="437803" y="232757"/>
                    <a:pt x="415636" y="249382"/>
                  </a:cubicBezTo>
                  <a:cubicBezTo>
                    <a:pt x="335923" y="408813"/>
                    <a:pt x="436876" y="211151"/>
                    <a:pt x="332509" y="399011"/>
                  </a:cubicBezTo>
                  <a:cubicBezTo>
                    <a:pt x="305405" y="447798"/>
                    <a:pt x="300846" y="473582"/>
                    <a:pt x="266007" y="515389"/>
                  </a:cubicBezTo>
                  <a:cubicBezTo>
                    <a:pt x="250955" y="533451"/>
                    <a:pt x="230566" y="546707"/>
                    <a:pt x="216131" y="565266"/>
                  </a:cubicBezTo>
                  <a:cubicBezTo>
                    <a:pt x="191596" y="596811"/>
                    <a:pt x="149629" y="665019"/>
                    <a:pt x="149629" y="665019"/>
                  </a:cubicBezTo>
                  <a:cubicBezTo>
                    <a:pt x="144087" y="681644"/>
                    <a:pt x="143952" y="701211"/>
                    <a:pt x="133004" y="714895"/>
                  </a:cubicBezTo>
                  <a:cubicBezTo>
                    <a:pt x="120522" y="730498"/>
                    <a:pt x="97256" y="734017"/>
                    <a:pt x="83127" y="748146"/>
                  </a:cubicBezTo>
                  <a:cubicBezTo>
                    <a:pt x="68998" y="762275"/>
                    <a:pt x="60960" y="781397"/>
                    <a:pt x="49876" y="798022"/>
                  </a:cubicBezTo>
                  <a:cubicBezTo>
                    <a:pt x="5966" y="929755"/>
                    <a:pt x="22388" y="863202"/>
                    <a:pt x="0" y="997528"/>
                  </a:cubicBezTo>
                  <a:cubicBezTo>
                    <a:pt x="5542" y="1108364"/>
                    <a:pt x="7012" y="1219479"/>
                    <a:pt x="16626" y="1330037"/>
                  </a:cubicBezTo>
                  <a:cubicBezTo>
                    <a:pt x="18144" y="1347496"/>
                    <a:pt x="28437" y="1363063"/>
                    <a:pt x="33251" y="1379913"/>
                  </a:cubicBezTo>
                  <a:cubicBezTo>
                    <a:pt x="39528" y="1401883"/>
                    <a:pt x="44334" y="1424248"/>
                    <a:pt x="49876" y="1446415"/>
                  </a:cubicBezTo>
                  <a:cubicBezTo>
                    <a:pt x="55418" y="1551710"/>
                    <a:pt x="57368" y="1657255"/>
                    <a:pt x="66502" y="1762299"/>
                  </a:cubicBezTo>
                  <a:cubicBezTo>
                    <a:pt x="73081" y="1837963"/>
                    <a:pt x="104973" y="1861570"/>
                    <a:pt x="149629" y="1928553"/>
                  </a:cubicBezTo>
                  <a:cubicBezTo>
                    <a:pt x="160713" y="1945178"/>
                    <a:pt x="166255" y="1967345"/>
                    <a:pt x="182880" y="1978429"/>
                  </a:cubicBezTo>
                  <a:cubicBezTo>
                    <a:pt x="216131" y="2000596"/>
                    <a:pt x="244721" y="2032293"/>
                    <a:pt x="282633" y="2044931"/>
                  </a:cubicBezTo>
                  <a:cubicBezTo>
                    <a:pt x="360821" y="2070995"/>
                    <a:pt x="316238" y="2055048"/>
                    <a:pt x="415636" y="2094808"/>
                  </a:cubicBezTo>
                  <a:cubicBezTo>
                    <a:pt x="543098" y="2089266"/>
                    <a:pt x="671117" y="2091310"/>
                    <a:pt x="798022" y="2078182"/>
                  </a:cubicBezTo>
                  <a:cubicBezTo>
                    <a:pt x="832886" y="2074575"/>
                    <a:pt x="865232" y="2057948"/>
                    <a:pt x="897775" y="2044931"/>
                  </a:cubicBezTo>
                  <a:cubicBezTo>
                    <a:pt x="925484" y="2033847"/>
                    <a:pt x="953858" y="2024300"/>
                    <a:pt x="980902" y="2011680"/>
                  </a:cubicBezTo>
                  <a:cubicBezTo>
                    <a:pt x="1037048" y="1985478"/>
                    <a:pt x="1089628" y="1951564"/>
                    <a:pt x="1147156" y="1928553"/>
                  </a:cubicBezTo>
                  <a:cubicBezTo>
                    <a:pt x="1174865" y="1917469"/>
                    <a:pt x="1203591" y="1908649"/>
                    <a:pt x="1230284" y="1895302"/>
                  </a:cubicBezTo>
                  <a:cubicBezTo>
                    <a:pt x="1248156" y="1886366"/>
                    <a:pt x="1261451" y="1869067"/>
                    <a:pt x="1280160" y="1862051"/>
                  </a:cubicBezTo>
                  <a:cubicBezTo>
                    <a:pt x="1306619" y="1852129"/>
                    <a:pt x="1335753" y="1851780"/>
                    <a:pt x="1363287" y="1845426"/>
                  </a:cubicBezTo>
                  <a:cubicBezTo>
                    <a:pt x="1407816" y="1835150"/>
                    <a:pt x="1496291" y="1812175"/>
                    <a:pt x="1496291" y="1812175"/>
                  </a:cubicBezTo>
                  <a:cubicBezTo>
                    <a:pt x="1534151" y="1793245"/>
                    <a:pt x="1633610" y="1750389"/>
                    <a:pt x="1679171" y="1712422"/>
                  </a:cubicBezTo>
                  <a:cubicBezTo>
                    <a:pt x="1697233" y="1697370"/>
                    <a:pt x="1715381" y="1681678"/>
                    <a:pt x="1729047" y="1662546"/>
                  </a:cubicBezTo>
                  <a:cubicBezTo>
                    <a:pt x="1743452" y="1642379"/>
                    <a:pt x="1750002" y="1617562"/>
                    <a:pt x="1762298" y="1596044"/>
                  </a:cubicBezTo>
                  <a:cubicBezTo>
                    <a:pt x="1856295" y="1431549"/>
                    <a:pt x="1728318" y="1680630"/>
                    <a:pt x="1828800" y="1479666"/>
                  </a:cubicBezTo>
                  <a:cubicBezTo>
                    <a:pt x="1834342" y="1451957"/>
                    <a:pt x="1838572" y="1423953"/>
                    <a:pt x="1845426" y="1396539"/>
                  </a:cubicBezTo>
                  <a:cubicBezTo>
                    <a:pt x="1849676" y="1379537"/>
                    <a:pt x="1860845" y="1364145"/>
                    <a:pt x="1862051" y="1346662"/>
                  </a:cubicBezTo>
                  <a:cubicBezTo>
                    <a:pt x="1871972" y="1202810"/>
                    <a:pt x="1873134" y="1058487"/>
                    <a:pt x="1878676" y="914400"/>
                  </a:cubicBezTo>
                  <a:cubicBezTo>
                    <a:pt x="1873134" y="737062"/>
                    <a:pt x="1885197" y="558294"/>
                    <a:pt x="1862051" y="382386"/>
                  </a:cubicBezTo>
                  <a:cubicBezTo>
                    <a:pt x="1862051" y="382384"/>
                    <a:pt x="1778924" y="257696"/>
                    <a:pt x="1762298" y="232757"/>
                  </a:cubicBezTo>
                  <a:lnTo>
                    <a:pt x="1745673" y="199506"/>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1" name="Freeform 17"/>
            <p:cNvSpPr/>
            <p:nvPr/>
          </p:nvSpPr>
          <p:spPr>
            <a:xfrm>
              <a:off x="5170680" y="4089960"/>
              <a:ext cx="1517400" cy="1877760"/>
            </a:xfrm>
            <a:custGeom>
              <a:avLst/>
              <a:gdLst/>
              <a:ahLst/>
              <a:rect l="l" t="t" r="r" b="b"/>
              <a:pathLst>
                <a:path w="1517258" h="1878676">
                  <a:moveTo>
                    <a:pt x="66502" y="1712422"/>
                  </a:moveTo>
                  <a:cubicBezTo>
                    <a:pt x="63731" y="1687484"/>
                    <a:pt x="57312" y="1656556"/>
                    <a:pt x="49877" y="1629294"/>
                  </a:cubicBezTo>
                  <a:cubicBezTo>
                    <a:pt x="40655" y="1595480"/>
                    <a:pt x="16626" y="1529542"/>
                    <a:pt x="16626" y="1529542"/>
                  </a:cubicBezTo>
                  <a:cubicBezTo>
                    <a:pt x="11084" y="1285702"/>
                    <a:pt x="0" y="1041925"/>
                    <a:pt x="0" y="798022"/>
                  </a:cubicBezTo>
                  <a:cubicBezTo>
                    <a:pt x="0" y="648290"/>
                    <a:pt x="6666" y="498534"/>
                    <a:pt x="16626" y="349134"/>
                  </a:cubicBezTo>
                  <a:cubicBezTo>
                    <a:pt x="17792" y="331648"/>
                    <a:pt x="25414" y="314932"/>
                    <a:pt x="33251" y="299258"/>
                  </a:cubicBezTo>
                  <a:cubicBezTo>
                    <a:pt x="67887" y="229986"/>
                    <a:pt x="91442" y="232756"/>
                    <a:pt x="166255" y="182880"/>
                  </a:cubicBezTo>
                  <a:lnTo>
                    <a:pt x="266008" y="116378"/>
                  </a:lnTo>
                  <a:cubicBezTo>
                    <a:pt x="282633" y="105294"/>
                    <a:pt x="296928" y="89446"/>
                    <a:pt x="315884" y="83127"/>
                  </a:cubicBezTo>
                  <a:cubicBezTo>
                    <a:pt x="450191" y="38358"/>
                    <a:pt x="409811" y="43680"/>
                    <a:pt x="581891" y="33251"/>
                  </a:cubicBezTo>
                  <a:cubicBezTo>
                    <a:pt x="709240" y="25533"/>
                    <a:pt x="836815" y="22167"/>
                    <a:pt x="964277" y="16625"/>
                  </a:cubicBezTo>
                  <a:cubicBezTo>
                    <a:pt x="980902" y="11083"/>
                    <a:pt x="996628" y="0"/>
                    <a:pt x="1014153" y="0"/>
                  </a:cubicBezTo>
                  <a:cubicBezTo>
                    <a:pt x="1053339" y="0"/>
                    <a:pt x="1091977" y="9615"/>
                    <a:pt x="1130531" y="16625"/>
                  </a:cubicBezTo>
                  <a:cubicBezTo>
                    <a:pt x="1162476" y="22433"/>
                    <a:pt x="1280521" y="55659"/>
                    <a:pt x="1296786" y="66502"/>
                  </a:cubicBezTo>
                  <a:lnTo>
                    <a:pt x="1346662" y="99753"/>
                  </a:lnTo>
                  <a:cubicBezTo>
                    <a:pt x="1352204" y="116378"/>
                    <a:pt x="1362288" y="132133"/>
                    <a:pt x="1363288" y="149629"/>
                  </a:cubicBezTo>
                  <a:cubicBezTo>
                    <a:pt x="1370898" y="282795"/>
                    <a:pt x="1394580" y="1253622"/>
                    <a:pt x="1396539" y="1330036"/>
                  </a:cubicBezTo>
                  <a:cubicBezTo>
                    <a:pt x="1388104" y="1583073"/>
                    <a:pt x="1517258" y="1768442"/>
                    <a:pt x="1330037" y="1862051"/>
                  </a:cubicBezTo>
                  <a:cubicBezTo>
                    <a:pt x="1314362" y="1869888"/>
                    <a:pt x="1296786" y="1873134"/>
                    <a:pt x="1280160" y="1878676"/>
                  </a:cubicBezTo>
                  <a:cubicBezTo>
                    <a:pt x="1075113" y="1873134"/>
                    <a:pt x="869773" y="1874336"/>
                    <a:pt x="665019" y="1862051"/>
                  </a:cubicBezTo>
                  <a:cubicBezTo>
                    <a:pt x="592259" y="1857685"/>
                    <a:pt x="519603" y="1846479"/>
                    <a:pt x="448888" y="1828800"/>
                  </a:cubicBezTo>
                  <a:cubicBezTo>
                    <a:pt x="429503" y="1823954"/>
                    <a:pt x="418825" y="1798133"/>
                    <a:pt x="399011" y="1795549"/>
                  </a:cubicBezTo>
                  <a:cubicBezTo>
                    <a:pt x="288968" y="1781195"/>
                    <a:pt x="177338" y="1784465"/>
                    <a:pt x="66502" y="1778923"/>
                  </a:cubicBezTo>
                  <a:cubicBezTo>
                    <a:pt x="44620" y="1713275"/>
                    <a:pt x="69273" y="1737360"/>
                    <a:pt x="66502" y="1712422"/>
                  </a:cubicBez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2" name="Freeform 18"/>
            <p:cNvSpPr/>
            <p:nvPr/>
          </p:nvSpPr>
          <p:spPr>
            <a:xfrm>
              <a:off x="3663720" y="3942000"/>
              <a:ext cx="1522800" cy="2258640"/>
            </a:xfrm>
            <a:custGeom>
              <a:avLst/>
              <a:gdLst/>
              <a:ahLst/>
              <a:rect l="l" t="t" r="r" b="b"/>
              <a:pathLst>
                <a:path w="1522817" h="2259518">
                  <a:moveTo>
                    <a:pt x="1473392" y="1112361"/>
                  </a:moveTo>
                  <a:cubicBezTo>
                    <a:pt x="1394240" y="954053"/>
                    <a:pt x="1456490" y="1094348"/>
                    <a:pt x="1390265" y="763227"/>
                  </a:cubicBezTo>
                  <a:cubicBezTo>
                    <a:pt x="1311880" y="371305"/>
                    <a:pt x="1408282" y="989107"/>
                    <a:pt x="1323763" y="397467"/>
                  </a:cubicBezTo>
                  <a:cubicBezTo>
                    <a:pt x="1312051" y="315485"/>
                    <a:pt x="1311894" y="285859"/>
                    <a:pt x="1290512" y="214587"/>
                  </a:cubicBezTo>
                  <a:cubicBezTo>
                    <a:pt x="1281688" y="185174"/>
                    <a:pt x="1259177" y="93091"/>
                    <a:pt x="1224011" y="64958"/>
                  </a:cubicBezTo>
                  <a:cubicBezTo>
                    <a:pt x="1210326" y="54010"/>
                    <a:pt x="1191620" y="49498"/>
                    <a:pt x="1174134" y="48332"/>
                  </a:cubicBezTo>
                  <a:cubicBezTo>
                    <a:pt x="1024734" y="38372"/>
                    <a:pt x="874876" y="37249"/>
                    <a:pt x="725247" y="31707"/>
                  </a:cubicBezTo>
                  <a:cubicBezTo>
                    <a:pt x="553691" y="3114"/>
                    <a:pt x="579888" y="0"/>
                    <a:pt x="326236" y="31707"/>
                  </a:cubicBezTo>
                  <a:cubicBezTo>
                    <a:pt x="291457" y="36054"/>
                    <a:pt x="226483" y="64958"/>
                    <a:pt x="226483" y="64958"/>
                  </a:cubicBezTo>
                  <a:cubicBezTo>
                    <a:pt x="131935" y="159506"/>
                    <a:pt x="208102" y="68468"/>
                    <a:pt x="159982" y="164710"/>
                  </a:cubicBezTo>
                  <a:cubicBezTo>
                    <a:pt x="136835" y="211005"/>
                    <a:pt x="113625" y="227693"/>
                    <a:pt x="76854" y="264463"/>
                  </a:cubicBezTo>
                  <a:cubicBezTo>
                    <a:pt x="71312" y="281088"/>
                    <a:pt x="65043" y="297489"/>
                    <a:pt x="60229" y="314339"/>
                  </a:cubicBezTo>
                  <a:cubicBezTo>
                    <a:pt x="0" y="525140"/>
                    <a:pt x="36719" y="623855"/>
                    <a:pt x="60229" y="929481"/>
                  </a:cubicBezTo>
                  <a:cubicBezTo>
                    <a:pt x="62917" y="964427"/>
                    <a:pt x="93480" y="1029234"/>
                    <a:pt x="93480" y="1029234"/>
                  </a:cubicBezTo>
                  <a:cubicBezTo>
                    <a:pt x="99022" y="1167779"/>
                    <a:pt x="100882" y="1306521"/>
                    <a:pt x="110105" y="1444870"/>
                  </a:cubicBezTo>
                  <a:cubicBezTo>
                    <a:pt x="111985" y="1473066"/>
                    <a:pt x="114094" y="1502723"/>
                    <a:pt x="126731" y="1527998"/>
                  </a:cubicBezTo>
                  <a:cubicBezTo>
                    <a:pt x="142600" y="1559737"/>
                    <a:pt x="171941" y="1582737"/>
                    <a:pt x="193232" y="1611125"/>
                  </a:cubicBezTo>
                  <a:cubicBezTo>
                    <a:pt x="205221" y="1627110"/>
                    <a:pt x="216570" y="1643652"/>
                    <a:pt x="226483" y="1661001"/>
                  </a:cubicBezTo>
                  <a:cubicBezTo>
                    <a:pt x="238779" y="1682519"/>
                    <a:pt x="247438" y="1705985"/>
                    <a:pt x="259734" y="1727503"/>
                  </a:cubicBezTo>
                  <a:cubicBezTo>
                    <a:pt x="269647" y="1744852"/>
                    <a:pt x="283072" y="1760030"/>
                    <a:pt x="292985" y="1777379"/>
                  </a:cubicBezTo>
                  <a:cubicBezTo>
                    <a:pt x="305281" y="1798897"/>
                    <a:pt x="313940" y="1822363"/>
                    <a:pt x="326236" y="1843881"/>
                  </a:cubicBezTo>
                  <a:cubicBezTo>
                    <a:pt x="373137" y="1925958"/>
                    <a:pt x="349884" y="1865092"/>
                    <a:pt x="409363" y="1960259"/>
                  </a:cubicBezTo>
                  <a:cubicBezTo>
                    <a:pt x="476551" y="2067760"/>
                    <a:pt x="404276" y="2027101"/>
                    <a:pt x="558992" y="2143139"/>
                  </a:cubicBezTo>
                  <a:cubicBezTo>
                    <a:pt x="581159" y="2159765"/>
                    <a:pt x="605901" y="2173423"/>
                    <a:pt x="625494" y="2193016"/>
                  </a:cubicBezTo>
                  <a:cubicBezTo>
                    <a:pt x="639623" y="2207145"/>
                    <a:pt x="641396" y="2232979"/>
                    <a:pt x="658745" y="2242892"/>
                  </a:cubicBezTo>
                  <a:cubicBezTo>
                    <a:pt x="683280" y="2256912"/>
                    <a:pt x="714163" y="2253976"/>
                    <a:pt x="741872" y="2259518"/>
                  </a:cubicBezTo>
                  <a:cubicBezTo>
                    <a:pt x="819458" y="2248434"/>
                    <a:pt x="897520" y="2240287"/>
                    <a:pt x="974629" y="2226267"/>
                  </a:cubicBezTo>
                  <a:cubicBezTo>
                    <a:pt x="1083851" y="2206408"/>
                    <a:pt x="1171892" y="2173589"/>
                    <a:pt x="1273887" y="2126514"/>
                  </a:cubicBezTo>
                  <a:cubicBezTo>
                    <a:pt x="1292029" y="2118141"/>
                    <a:pt x="1307138" y="2104347"/>
                    <a:pt x="1323763" y="2093263"/>
                  </a:cubicBezTo>
                  <a:cubicBezTo>
                    <a:pt x="1350080" y="2053788"/>
                    <a:pt x="1375957" y="2012975"/>
                    <a:pt x="1406891" y="1976885"/>
                  </a:cubicBezTo>
                  <a:cubicBezTo>
                    <a:pt x="1422192" y="1959033"/>
                    <a:pt x="1440142" y="1943634"/>
                    <a:pt x="1456767" y="1927008"/>
                  </a:cubicBezTo>
                  <a:cubicBezTo>
                    <a:pt x="1462309" y="1910383"/>
                    <a:pt x="1469590" y="1894239"/>
                    <a:pt x="1473392" y="1877132"/>
                  </a:cubicBezTo>
                  <a:cubicBezTo>
                    <a:pt x="1522817" y="1654718"/>
                    <a:pt x="1490018" y="1372362"/>
                    <a:pt x="1490018" y="1178863"/>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3" name="Freeform 19"/>
            <p:cNvSpPr/>
            <p:nvPr/>
          </p:nvSpPr>
          <p:spPr>
            <a:xfrm>
              <a:off x="2111400" y="3907440"/>
              <a:ext cx="1712520" cy="2044080"/>
            </a:xfrm>
            <a:custGeom>
              <a:avLst/>
              <a:gdLst/>
              <a:ahLst/>
              <a:rect l="l" t="t" r="r" b="b"/>
              <a:pathLst>
                <a:path w="1712422" h="2044931">
                  <a:moveTo>
                    <a:pt x="831272" y="1978429"/>
                  </a:moveTo>
                  <a:cubicBezTo>
                    <a:pt x="875212" y="1989414"/>
                    <a:pt x="956768" y="2011680"/>
                    <a:pt x="997527" y="2011680"/>
                  </a:cubicBezTo>
                  <a:cubicBezTo>
                    <a:pt x="1108502" y="2011680"/>
                    <a:pt x="1219200" y="2000596"/>
                    <a:pt x="1330036" y="1995054"/>
                  </a:cubicBezTo>
                  <a:cubicBezTo>
                    <a:pt x="1447534" y="1971555"/>
                    <a:pt x="1386353" y="1987365"/>
                    <a:pt x="1512916" y="1945178"/>
                  </a:cubicBezTo>
                  <a:lnTo>
                    <a:pt x="1562792" y="1928553"/>
                  </a:lnTo>
                  <a:cubicBezTo>
                    <a:pt x="1568334" y="1911927"/>
                    <a:pt x="1570907" y="1893996"/>
                    <a:pt x="1579418" y="1878676"/>
                  </a:cubicBezTo>
                  <a:cubicBezTo>
                    <a:pt x="1598826" y="1843742"/>
                    <a:pt x="1645920" y="1778923"/>
                    <a:pt x="1645920" y="1778923"/>
                  </a:cubicBezTo>
                  <a:cubicBezTo>
                    <a:pt x="1657004" y="1745672"/>
                    <a:pt x="1678224" y="1714208"/>
                    <a:pt x="1679171" y="1679171"/>
                  </a:cubicBezTo>
                  <a:cubicBezTo>
                    <a:pt x="1696269" y="1046511"/>
                    <a:pt x="1630928" y="1258624"/>
                    <a:pt x="1712422" y="1014153"/>
                  </a:cubicBezTo>
                  <a:cubicBezTo>
                    <a:pt x="1706880" y="980902"/>
                    <a:pt x="1700563" y="947771"/>
                    <a:pt x="1695796" y="914400"/>
                  </a:cubicBezTo>
                  <a:cubicBezTo>
                    <a:pt x="1689477" y="870169"/>
                    <a:pt x="1685799" y="825581"/>
                    <a:pt x="1679171" y="781396"/>
                  </a:cubicBezTo>
                  <a:cubicBezTo>
                    <a:pt x="1669170" y="714723"/>
                    <a:pt x="1667240" y="645850"/>
                    <a:pt x="1645920" y="581891"/>
                  </a:cubicBezTo>
                  <a:cubicBezTo>
                    <a:pt x="1640378" y="565265"/>
                    <a:pt x="1637131" y="547689"/>
                    <a:pt x="1629294" y="532014"/>
                  </a:cubicBezTo>
                  <a:cubicBezTo>
                    <a:pt x="1620358" y="514142"/>
                    <a:pt x="1607127" y="498763"/>
                    <a:pt x="1596043" y="482138"/>
                  </a:cubicBezTo>
                  <a:cubicBezTo>
                    <a:pt x="1579881" y="433652"/>
                    <a:pt x="1575516" y="412719"/>
                    <a:pt x="1546167" y="365760"/>
                  </a:cubicBezTo>
                  <a:cubicBezTo>
                    <a:pt x="1531481" y="342263"/>
                    <a:pt x="1511661" y="322313"/>
                    <a:pt x="1496291" y="299258"/>
                  </a:cubicBezTo>
                  <a:cubicBezTo>
                    <a:pt x="1443393" y="219912"/>
                    <a:pt x="1456546" y="209233"/>
                    <a:pt x="1379912" y="149629"/>
                  </a:cubicBezTo>
                  <a:cubicBezTo>
                    <a:pt x="1309723" y="95038"/>
                    <a:pt x="1312274" y="107639"/>
                    <a:pt x="1246909" y="83127"/>
                  </a:cubicBezTo>
                  <a:cubicBezTo>
                    <a:pt x="1190675" y="62039"/>
                    <a:pt x="1166747" y="48349"/>
                    <a:pt x="1113905" y="33251"/>
                  </a:cubicBezTo>
                  <a:cubicBezTo>
                    <a:pt x="1059109" y="17595"/>
                    <a:pt x="1021429" y="11430"/>
                    <a:pt x="964276" y="0"/>
                  </a:cubicBezTo>
                  <a:lnTo>
                    <a:pt x="382385" y="33251"/>
                  </a:lnTo>
                  <a:cubicBezTo>
                    <a:pt x="359603" y="35003"/>
                    <a:pt x="335620" y="38363"/>
                    <a:pt x="315883" y="49876"/>
                  </a:cubicBezTo>
                  <a:cubicBezTo>
                    <a:pt x="268014" y="77800"/>
                    <a:pt x="228991" y="118889"/>
                    <a:pt x="182880" y="149629"/>
                  </a:cubicBezTo>
                  <a:lnTo>
                    <a:pt x="133003" y="182880"/>
                  </a:lnTo>
                  <a:cubicBezTo>
                    <a:pt x="73468" y="272184"/>
                    <a:pt x="71822" y="255698"/>
                    <a:pt x="49876" y="332509"/>
                  </a:cubicBezTo>
                  <a:cubicBezTo>
                    <a:pt x="43599" y="354479"/>
                    <a:pt x="39817" y="377125"/>
                    <a:pt x="33251" y="399011"/>
                  </a:cubicBezTo>
                  <a:cubicBezTo>
                    <a:pt x="23180" y="432582"/>
                    <a:pt x="0" y="498763"/>
                    <a:pt x="0" y="498763"/>
                  </a:cubicBezTo>
                  <a:cubicBezTo>
                    <a:pt x="5542" y="676101"/>
                    <a:pt x="6503" y="853642"/>
                    <a:pt x="16625" y="1030778"/>
                  </a:cubicBezTo>
                  <a:cubicBezTo>
                    <a:pt x="17625" y="1048274"/>
                    <a:pt x="25414" y="1064979"/>
                    <a:pt x="33251" y="1080654"/>
                  </a:cubicBezTo>
                  <a:cubicBezTo>
                    <a:pt x="42187" y="1098526"/>
                    <a:pt x="53710" y="1115181"/>
                    <a:pt x="66502" y="1130531"/>
                  </a:cubicBezTo>
                  <a:cubicBezTo>
                    <a:pt x="81554" y="1148593"/>
                    <a:pt x="99753" y="1163782"/>
                    <a:pt x="116378" y="1180407"/>
                  </a:cubicBezTo>
                  <a:cubicBezTo>
                    <a:pt x="154559" y="1333134"/>
                    <a:pt x="99379" y="1175784"/>
                    <a:pt x="182880" y="1280160"/>
                  </a:cubicBezTo>
                  <a:cubicBezTo>
                    <a:pt x="193828" y="1293844"/>
                    <a:pt x="190994" y="1314717"/>
                    <a:pt x="199505" y="1330036"/>
                  </a:cubicBezTo>
                  <a:cubicBezTo>
                    <a:pt x="252593" y="1425595"/>
                    <a:pt x="253995" y="1424705"/>
                    <a:pt x="332509" y="1479665"/>
                  </a:cubicBezTo>
                  <a:cubicBezTo>
                    <a:pt x="365248" y="1502582"/>
                    <a:pt x="394350" y="1533529"/>
                    <a:pt x="432262" y="1546167"/>
                  </a:cubicBezTo>
                  <a:cubicBezTo>
                    <a:pt x="488214" y="1564818"/>
                    <a:pt x="491121" y="1563176"/>
                    <a:pt x="548640" y="1596043"/>
                  </a:cubicBezTo>
                  <a:cubicBezTo>
                    <a:pt x="565989" y="1605956"/>
                    <a:pt x="584387" y="1615165"/>
                    <a:pt x="598516" y="1629294"/>
                  </a:cubicBezTo>
                  <a:cubicBezTo>
                    <a:pt x="618109" y="1648887"/>
                    <a:pt x="630359" y="1674758"/>
                    <a:pt x="648392" y="1695796"/>
                  </a:cubicBezTo>
                  <a:cubicBezTo>
                    <a:pt x="663694" y="1713648"/>
                    <a:pt x="681643" y="1729047"/>
                    <a:pt x="698269" y="1745673"/>
                  </a:cubicBezTo>
                  <a:cubicBezTo>
                    <a:pt x="748716" y="1897017"/>
                    <a:pt x="671329" y="1657977"/>
                    <a:pt x="731520" y="1878676"/>
                  </a:cubicBezTo>
                  <a:cubicBezTo>
                    <a:pt x="740742" y="1912491"/>
                    <a:pt x="745329" y="1949266"/>
                    <a:pt x="764771" y="1978429"/>
                  </a:cubicBezTo>
                  <a:cubicBezTo>
                    <a:pt x="775855" y="1995054"/>
                    <a:pt x="782419" y="2015823"/>
                    <a:pt x="798022" y="2028305"/>
                  </a:cubicBezTo>
                  <a:cubicBezTo>
                    <a:pt x="811706" y="2039253"/>
                    <a:pt x="831273" y="2039389"/>
                    <a:pt x="847898" y="2044931"/>
                  </a:cubicBezTo>
                  <a:lnTo>
                    <a:pt x="980902" y="2028305"/>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1"/>
                                        </p:tgtEl>
                                        <p:attrNameLst>
                                          <p:attrName>style.visibility</p:attrName>
                                        </p:attrNameLst>
                                      </p:cBhvr>
                                      <p:to>
                                        <p:strVal val="visible"/>
                                      </p:to>
                                    </p:set>
                                    <p:anim calcmode="lin" valueType="num">
                                      <p:cBhvr additive="base">
                                        <p:cTn id="44" dur="2000" fill="hold"/>
                                        <p:tgtEl>
                                          <p:spTgt spid="121"/>
                                        </p:tgtEl>
                                        <p:attrNameLst>
                                          <p:attrName>ppt_x</p:attrName>
                                        </p:attrNameLst>
                                      </p:cBhvr>
                                      <p:tavLst>
                                        <p:tav tm="0">
                                          <p:val>
                                            <p:strVal val="#ppt_x"/>
                                          </p:val>
                                        </p:tav>
                                        <p:tav tm="100000">
                                          <p:val>
                                            <p:strVal val="#ppt_x"/>
                                          </p:val>
                                        </p:tav>
                                      </p:tavLst>
                                    </p:anim>
                                    <p:anim calcmode="lin" valueType="num">
                                      <p:cBhvr additive="base">
                                        <p:cTn id="45" dur="2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29"/>
                                        </p:tgtEl>
                                        <p:attrNameLst>
                                          <p:attrName>style.visibility</p:attrName>
                                        </p:attrNameLst>
                                      </p:cBhvr>
                                      <p:to>
                                        <p:strVal val="visible"/>
                                      </p:to>
                                    </p:set>
                                    <p:anim calcmode="lin" valueType="num">
                                      <p:cBhvr additive="base">
                                        <p:cTn id="50" dur="1000" fill="hold"/>
                                        <p:tgtEl>
                                          <p:spTgt spid="129"/>
                                        </p:tgtEl>
                                        <p:attrNameLst>
                                          <p:attrName>ppt_x</p:attrName>
                                        </p:attrNameLst>
                                      </p:cBhvr>
                                      <p:tavLst>
                                        <p:tav tm="0">
                                          <p:val>
                                            <p:strVal val="#ppt_x"/>
                                          </p:val>
                                        </p:tav>
                                        <p:tav tm="100000">
                                          <p:val>
                                            <p:strVal val="#ppt_x"/>
                                          </p:val>
                                        </p:tav>
                                      </p:tavLst>
                                    </p:anim>
                                    <p:anim calcmode="lin" valueType="num">
                                      <p:cBhvr additive="base">
                                        <p:cTn id="51"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measurement - quotative)</a:t>
            </a:r>
            <a:endParaRPr b="0" lang="en-US" sz="4400" spc="-1" strike="noStrike">
              <a:solidFill>
                <a:srgbClr val="2b5ca9"/>
              </a:solidFill>
              <a:latin typeface="Arial"/>
            </a:endParaRPr>
          </a:p>
        </p:txBody>
      </p:sp>
      <p:sp>
        <p:nvSpPr>
          <p:cNvPr id="135" name=""/>
          <p:cNvSpPr txBox="1"/>
          <p:nvPr/>
        </p:nvSpPr>
        <p:spPr>
          <a:xfrm>
            <a:off x="456840" y="1599840"/>
            <a:ext cx="84582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can divide by a fra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g. 7 yards of ribbon, ¾ of a yard to wrap a gif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gifts) is unknow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gift) is unknown (¾)</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E8A9-91E8-4B1B-992A-37D4D025F4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7" name="Group 27"/>
          <p:cNvGrpSpPr/>
          <p:nvPr/>
        </p:nvGrpSpPr>
        <p:grpSpPr>
          <a:xfrm>
            <a:off x="1676520" y="4952880"/>
            <a:ext cx="6400800" cy="304920"/>
            <a:chOff x="1676520" y="4952880"/>
            <a:chExt cx="6400800" cy="304920"/>
          </a:xfrm>
        </p:grpSpPr>
        <p:sp>
          <p:nvSpPr>
            <p:cNvPr id="138" name="Rectangle 20"/>
            <p:cNvSpPr/>
            <p:nvPr/>
          </p:nvSpPr>
          <p:spPr>
            <a:xfrm>
              <a:off x="1676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21"/>
            <p:cNvSpPr/>
            <p:nvPr/>
          </p:nvSpPr>
          <p:spPr>
            <a:xfrm>
              <a:off x="7162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22"/>
            <p:cNvSpPr/>
            <p:nvPr/>
          </p:nvSpPr>
          <p:spPr>
            <a:xfrm>
              <a:off x="6248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23"/>
            <p:cNvSpPr/>
            <p:nvPr/>
          </p:nvSpPr>
          <p:spPr>
            <a:xfrm>
              <a:off x="53341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4"/>
            <p:cNvSpPr/>
            <p:nvPr/>
          </p:nvSpPr>
          <p:spPr>
            <a:xfrm>
              <a:off x="44197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5"/>
            <p:cNvSpPr/>
            <p:nvPr/>
          </p:nvSpPr>
          <p:spPr>
            <a:xfrm>
              <a:off x="35053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26"/>
            <p:cNvSpPr/>
            <p:nvPr/>
          </p:nvSpPr>
          <p:spPr>
            <a:xfrm>
              <a:off x="2590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5" name="Group 49"/>
          <p:cNvGrpSpPr/>
          <p:nvPr/>
        </p:nvGrpSpPr>
        <p:grpSpPr>
          <a:xfrm>
            <a:off x="2362320" y="4724280"/>
            <a:ext cx="5486400" cy="762120"/>
            <a:chOff x="2362320" y="4724280"/>
            <a:chExt cx="5486400" cy="762120"/>
          </a:xfrm>
        </p:grpSpPr>
        <p:sp>
          <p:nvSpPr>
            <p:cNvPr id="146" name="Straight Connector 30"/>
            <p:cNvSpPr/>
            <p:nvPr/>
          </p:nvSpPr>
          <p:spPr>
            <a:xfrm>
              <a:off x="2362320" y="487656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Straight Connector 40"/>
            <p:cNvSpPr/>
            <p:nvPr/>
          </p:nvSpPr>
          <p:spPr>
            <a:xfrm>
              <a:off x="3733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Straight Connector 41"/>
            <p:cNvSpPr/>
            <p:nvPr/>
          </p:nvSpPr>
          <p:spPr>
            <a:xfrm>
              <a:off x="4419720" y="472428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Straight Connector 42"/>
            <p:cNvSpPr/>
            <p:nvPr/>
          </p:nvSpPr>
          <p:spPr>
            <a:xfrm>
              <a:off x="51055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Straight Connector 43"/>
            <p:cNvSpPr/>
            <p:nvPr/>
          </p:nvSpPr>
          <p:spPr>
            <a:xfrm>
              <a:off x="57913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Straight Connector 44"/>
            <p:cNvSpPr/>
            <p:nvPr/>
          </p:nvSpPr>
          <p:spPr>
            <a:xfrm>
              <a:off x="6477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45"/>
            <p:cNvSpPr/>
            <p:nvPr/>
          </p:nvSpPr>
          <p:spPr>
            <a:xfrm>
              <a:off x="7162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Straight Connector 46"/>
            <p:cNvSpPr/>
            <p:nvPr/>
          </p:nvSpPr>
          <p:spPr>
            <a:xfrm>
              <a:off x="78487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Straight Connector 48"/>
            <p:cNvSpPr/>
            <p:nvPr/>
          </p:nvSpPr>
          <p:spPr>
            <a:xfrm>
              <a:off x="3048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7"/>
                                        </p:tgtEl>
                                        <p:attrNameLst>
                                          <p:attrName>style.visibility</p:attrName>
                                        </p:attrNameLst>
                                      </p:cBhvr>
                                      <p:to>
                                        <p:strVal val="visible"/>
                                      </p:to>
                                    </p:set>
                                    <p:anim calcmode="lin" valueType="num">
                                      <p:cBhvr additive="base">
                                        <p:cTn id="58" dur="500" fill="hold"/>
                                        <p:tgtEl>
                                          <p:spTgt spid="137"/>
                                        </p:tgtEl>
                                        <p:attrNameLst>
                                          <p:attrName>ppt_x</p:attrName>
                                        </p:attrNameLst>
                                      </p:cBhvr>
                                      <p:tavLst>
                                        <p:tav tm="0">
                                          <p:val>
                                            <p:strVal val="#ppt_x"/>
                                          </p:val>
                                        </p:tav>
                                        <p:tav tm="100000">
                                          <p:val>
                                            <p:strVal val="#ppt_x"/>
                                          </p:val>
                                        </p:tav>
                                      </p:tavLst>
                                    </p:anim>
                                    <p:anim calcmode="lin" valueType="num">
                                      <p:cBhvr additive="base">
                                        <p:cTn id="5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45"/>
                                        </p:tgtEl>
                                        <p:attrNameLst>
                                          <p:attrName>style.visibility</p:attrName>
                                        </p:attrNameLst>
                                      </p:cBhvr>
                                      <p:to>
                                        <p:strVal val="visible"/>
                                      </p:to>
                                    </p:set>
                                    <p:anim calcmode="lin" valueType="num">
                                      <p:cBhvr additive="base">
                                        <p:cTn id="64" dur="2000" fill="hold"/>
                                        <p:tgtEl>
                                          <p:spTgt spid="145"/>
                                        </p:tgtEl>
                                        <p:attrNameLst>
                                          <p:attrName>ppt_x</p:attrName>
                                        </p:attrNameLst>
                                      </p:cBhvr>
                                      <p:tavLst>
                                        <p:tav tm="0">
                                          <p:val>
                                            <p:strVal val="#ppt_x"/>
                                          </p:val>
                                        </p:tav>
                                        <p:tav tm="100000">
                                          <p:val>
                                            <p:strVal val="#ppt_x"/>
                                          </p:val>
                                        </p:tav>
                                      </p:tavLst>
                                    </p:anim>
                                    <p:anim calcmode="lin" valueType="num">
                                      <p:cBhvr additive="base">
                                        <p:cTn id="65" dur="2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iew with a Purpose</a:t>
            </a:r>
            <a:endParaRPr b="0" lang="en-US" sz="4400" spc="-1" strike="noStrike">
              <a:solidFill>
                <a:srgbClr val="2b5ca9"/>
              </a:solidFill>
              <a:latin typeface="Arial"/>
            </a:endParaRPr>
          </a:p>
        </p:txBody>
      </p:sp>
      <p:sp>
        <p:nvSpPr>
          <p:cNvPr id="56" name=""/>
          <p:cNvSpPr txBox="1"/>
          <p:nvPr/>
        </p:nvSpPr>
        <p:spPr>
          <a:xfrm>
            <a:off x="457200" y="1599840"/>
            <a:ext cx="8229600" cy="24382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cooperativelearning.nuvvo.com/lesson/9592-seinfeld-teaches-history</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8 math class in the OCDSB</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6663-C0E3-4F3A-ADBB-D8A27B3B92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View &amp; Discuss</a:t>
            </a:r>
            <a:endParaRPr b="0" lang="en-US" sz="4400" spc="-1" strike="noStrike">
              <a:solidFill>
                <a:srgbClr val="2b5ca9"/>
              </a:solidFill>
              <a:latin typeface="Arial"/>
            </a:endParaRPr>
          </a:p>
        </p:txBody>
      </p:sp>
      <p:sp>
        <p:nvSpPr>
          <p:cNvPr id="59" name=""/>
          <p:cNvSpPr txBox="1"/>
          <p:nvPr/>
        </p:nvSpPr>
        <p:spPr>
          <a:xfrm>
            <a:off x="457200" y="1752480"/>
            <a:ext cx="8229600" cy="19051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key differences between these two classes?</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FA78-0384-41D9-B2ED-9AA3C7EB13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ndividual </a:t>
            </a:r>
            <a:r>
              <a:rPr b="0" lang="en-US" sz="4400" spc="-1" strike="noStrike">
                <a:solidFill>
                  <a:srgbClr val="2b5ca9"/>
                </a:solidFill>
                <a:latin typeface="Wingdings"/>
                <a:ea typeface="Wingdings"/>
              </a:rPr>
              <a:t></a:t>
            </a:r>
            <a:r>
              <a:rPr b="0" lang="en-US" sz="4400" spc="-1" strike="noStrike">
                <a:solidFill>
                  <a:srgbClr val="2b5ca9"/>
                </a:solidFill>
                <a:latin typeface="Arial"/>
              </a:rPr>
              <a:t>  Reflection</a:t>
            </a:r>
            <a:endParaRPr b="0" lang="en-US" sz="4400" spc="-1" strike="noStrike">
              <a:solidFill>
                <a:srgbClr val="2b5ca9"/>
              </a:solidFill>
              <a:latin typeface="Arial"/>
            </a:endParaRPr>
          </a:p>
        </p:txBody>
      </p:sp>
      <p:sp>
        <p:nvSpPr>
          <p:cNvPr id="62" name="PlaceHolder 2"/>
          <p:cNvSpPr>
            <a:spLocks noGrp="1"/>
          </p:cNvSpPr>
          <p:nvPr>
            <p:ph/>
          </p:nvPr>
        </p:nvSpPr>
        <p:spPr>
          <a:xfrm>
            <a:off x="456840" y="1294920"/>
            <a:ext cx="8381880" cy="2971800"/>
          </a:xfrm>
          <a:prstGeom prst="rect">
            <a:avLst/>
          </a:prstGeom>
          <a:noFill/>
          <a:ln w="0">
            <a:noFill/>
          </a:ln>
        </p:spPr>
        <p:txBody>
          <a:bodyPr lIns="50760" rIns="90000" tIns="50760" bIns="50760" anchor="t">
            <a:normAutofit/>
          </a:bodyPr>
          <a:p>
            <a:pPr marL="6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stioning resources</a:t>
            </a:r>
            <a:endParaRPr b="0" lang="en-US" sz="2800" spc="-1" strike="noStrike">
              <a:solidFill>
                <a:srgbClr val="000000"/>
              </a:solidFill>
              <a:latin typeface="Arial"/>
            </a:endParaRPr>
          </a:p>
          <a:p>
            <a:pPr marL="6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use a resource of your choice</a:t>
            </a:r>
            <a:endParaRPr b="0" lang="en-US" sz="2800" spc="-1" strike="noStrike">
              <a:solidFill>
                <a:srgbClr val="000000"/>
              </a:solidFill>
              <a:latin typeface="Arial"/>
            </a:endParaRPr>
          </a:p>
          <a:p>
            <a:pPr marL="6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how they can be used to help kids and ourselves develop questioning techniques. </a:t>
            </a:r>
            <a:endParaRPr b="0" lang="en-US" sz="2800" spc="-1" strike="noStrike">
              <a:solidFill>
                <a:srgbClr val="000000"/>
              </a:solidFill>
              <a:latin typeface="Arial"/>
            </a:endParaRPr>
          </a:p>
        </p:txBody>
      </p:sp>
      <p:pic>
        <p:nvPicPr>
          <p:cNvPr id="63" name="Picture 2" descr=""/>
          <p:cNvPicPr/>
          <p:nvPr/>
        </p:nvPicPr>
        <p:blipFill>
          <a:blip r:embed="rId1"/>
          <a:stretch/>
        </p:blipFill>
        <p:spPr>
          <a:xfrm>
            <a:off x="5410080" y="3809880"/>
            <a:ext cx="1974960" cy="2552760"/>
          </a:xfrm>
          <a:prstGeom prst="rect">
            <a:avLst/>
          </a:prstGeom>
          <a:ln w="0">
            <a:noFill/>
          </a:ln>
        </p:spPr>
      </p:pic>
      <p:pic>
        <p:nvPicPr>
          <p:cNvPr id="64" name="Rectangle 2" descr=""/>
          <p:cNvPicPr/>
          <p:nvPr/>
        </p:nvPicPr>
        <p:blipFill>
          <a:blip r:embed="rId2"/>
          <a:stretch/>
        </p:blipFill>
        <p:spPr>
          <a:xfrm>
            <a:off x="7159680" y="4305240"/>
            <a:ext cx="1984320" cy="2552760"/>
          </a:xfrm>
          <a:prstGeom prst="rect">
            <a:avLst/>
          </a:prstGeom>
          <a:ln w="0">
            <a:noFill/>
          </a:ln>
        </p:spPr>
      </p:pic>
      <p:pic>
        <p:nvPicPr>
          <p:cNvPr id="65" name="" descr=""/>
          <p:cNvPicPr/>
          <p:nvPr/>
        </p:nvPicPr>
        <p:blipFill>
          <a:blip r:embed="rId3"/>
          <a:stretch/>
        </p:blipFill>
        <p:spPr>
          <a:xfrm>
            <a:off x="1981080" y="3809880"/>
            <a:ext cx="2341800" cy="2819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otient – Partitive</a:t>
            </a:r>
            <a:br>
              <a:rPr sz="4400"/>
            </a:br>
            <a:r>
              <a:rPr b="0" lang="en-US" sz="4400" spc="-1" strike="noStrike">
                <a:solidFill>
                  <a:srgbClr val="2b5ca9"/>
                </a:solidFill>
                <a:latin typeface="Arial"/>
              </a:rPr>
              <a:t>Brownie Problem</a:t>
            </a:r>
            <a:endParaRPr b="0" lang="en-US" sz="4400" spc="-1" strike="noStrike">
              <a:solidFill>
                <a:srgbClr val="2b5ca9"/>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0546-7020-4ABD-AF27-5D2F4E112C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15" descr="brownies"/>
          <p:cNvPicPr/>
          <p:nvPr/>
        </p:nvPicPr>
        <p:blipFill>
          <a:blip r:embed="rId1"/>
          <a:stretch/>
        </p:blipFill>
        <p:spPr>
          <a:xfrm>
            <a:off x="4800600" y="1523880"/>
            <a:ext cx="3809880" cy="3810240"/>
          </a:xfrm>
          <a:prstGeom prst="rect">
            <a:avLst/>
          </a:prstGeom>
          <a:ln w="0">
            <a:noFill/>
          </a:ln>
        </p:spPr>
      </p:pic>
      <p:sp>
        <p:nvSpPr>
          <p:cNvPr id="69" name="Rectangle 4"/>
          <p:cNvSpPr/>
          <p:nvPr/>
        </p:nvSpPr>
        <p:spPr>
          <a:xfrm>
            <a:off x="228600" y="1371600"/>
            <a:ext cx="4495680" cy="4191120"/>
          </a:xfrm>
          <a:prstGeom prst="rect">
            <a:avLst/>
          </a:prstGeom>
          <a:noFill/>
          <a:ln w="0">
            <a:noFill/>
          </a:ln>
        </p:spPr>
        <p:style>
          <a:lnRef idx="0"/>
          <a:fillRef idx="0"/>
          <a:effectRef idx="0"/>
          <a:fontRef idx="minor"/>
        </p:style>
        <p:txBody>
          <a:bodyPr lIns="50760" rIns="132120" tIns="50760" bIns="50760" anchor="t">
            <a:noAutofit/>
          </a:bodyPr>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e baked  brownies.</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r son got in and ate some. There were only 7 left. Sue’s daughter and her friends walked in. They decided to split them up. </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uch will each of the 4 girls get? </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how your thinking.</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estioning Simulation </a:t>
            </a:r>
            <a:endParaRPr b="0" lang="en-US" sz="4400" spc="-1" strike="noStrike">
              <a:solidFill>
                <a:srgbClr val="2b5ca9"/>
              </a:solidFill>
              <a:latin typeface="Arial"/>
            </a:endParaRPr>
          </a:p>
        </p:txBody>
      </p:sp>
      <p:sp>
        <p:nvSpPr>
          <p:cNvPr id="71" name="PlaceHolder 2"/>
          <p:cNvSpPr>
            <a:spLocks noGrp="1"/>
          </p:cNvSpPr>
          <p:nvPr>
            <p:ph/>
          </p:nvPr>
        </p:nvSpPr>
        <p:spPr>
          <a:xfrm>
            <a:off x="457200" y="1600200"/>
            <a:ext cx="8229600" cy="26668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ticipate student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otential question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the learning goals b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are some of the challenges in questioning?</a:t>
            </a:r>
            <a:endParaRPr b="0" lang="en-US" sz="4400" spc="-1" strike="noStrike">
              <a:solidFill>
                <a:srgbClr val="2b5ca9"/>
              </a:solidFill>
              <a:latin typeface="Arial"/>
            </a:endParaRPr>
          </a:p>
        </p:txBody>
      </p:sp>
      <p:sp>
        <p:nvSpPr>
          <p:cNvPr id="73"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ing sense of another’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nging question in the moment</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6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presentations &amp; Learnings</a:t>
            </a: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8229600" cy="38098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sharing foundational to divi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division of whole numbers with fraction remaind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model (represents a numb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model (3 pieces, 3 browni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ming of fractions (1¾=7/4=1</a:t>
            </a:r>
            <a:r>
              <a:rPr b="0" lang="en-US" sz="3200" spc="-1" strike="noStrike">
                <a:solidFill>
                  <a:srgbClr val="000000"/>
                </a:solidFill>
                <a:latin typeface="Times New Roman"/>
              </a:rPr>
              <a:t>+½+¼</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37342</cp:lastModifiedBy>
  <dcterms:modified xsi:type="dcterms:W3CDTF">2012-07-25T21:09:33Z</dcterms:modified>
  <cp:revision>34</cp:revision>
  <dc:subject/>
  <dc:title>&lt;Title&gt;</dc:title>
</cp:coreProperties>
</file>